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bomb.wav" ContentType="audio/x-wav"/>
  <Override PartName="/ppt/media/image2.wmf" ContentType="image/x-wm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5733-0CBD-42DC-9ECD-452ABEBED7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4B4-BC16-476D-9E81-0F687C07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510-E121-4C61-AA80-A76D32EA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25C-55F3-4DB1-85BC-AAF182DA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FFC-9D67-493E-A636-11A63061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CE1D-FF4F-4304-ADB5-C792D416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3FAD-B184-4F8F-9CDE-526C20DB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EB25-1D5B-47DA-B75B-6F3ABB06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A0AF-53BE-4FD7-B613-46D8CF87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636F-A1EE-4749-84DC-F4A98436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6414-D72E-49AA-A9CC-C720F68D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601A-8093-4DF3-AFC2-1414545E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8F7-7A95-4C96-97BE-E9E194F7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8091-6AA5-4D0B-AE3A-074D961D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C0F9-BC53-4C2E-B5EC-3A8AD12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ED07-5DC7-4845-AD39-E3BED015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4C07-D455-4CBC-9C5A-A716979E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F244-E2DA-468D-B9F2-CEE5B24D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F7F-0990-494E-A76C-07A94E98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443-F8B4-49C6-BB6A-02A723B5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ABF-C089-4ECB-84B0-9D3F7115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DAA-7AE1-4C94-920F-4E481EA7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C78-DBF7-48E1-9D85-0AFFCB3C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9C3-B010-4F2F-8632-293A85A6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46B-8122-4979-B6EB-B4919BA6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65F2-3B6D-419E-8A8D-0E77703076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00F6-A4F7-4402-A815-C12CDCA8A0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erimeter of a closed plane figure is the length of its bounda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429000" y="46483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29000" y="44956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2590920" y="2895480"/>
            <a:ext cx="3886200" cy="1447920"/>
            <a:chOff x="2590920" y="2895480"/>
            <a:chExt cx="3886200" cy="1447920"/>
          </a:xfrm>
        </p:grpSpPr>
        <p:sp>
          <p:nvSpPr>
            <p:cNvPr id="97" name="Line 21"/>
            <p:cNvSpPr/>
            <p:nvPr/>
          </p:nvSpPr>
          <p:spPr>
            <a:xfrm>
              <a:off x="2971800" y="43434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 flipH="1" flipV="1">
              <a:off x="2590920" y="297180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 flipV="1">
              <a:off x="5867640" y="2895480"/>
              <a:ext cx="6094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24"/>
            <p:cNvSpPr/>
            <p:nvPr/>
          </p:nvSpPr>
          <p:spPr>
            <a:xfrm>
              <a:off x="2590920" y="2971800"/>
              <a:ext cx="1981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25"/>
            <p:cNvSpPr/>
            <p:nvPr/>
          </p:nvSpPr>
          <p:spPr>
            <a:xfrm flipV="1">
              <a:off x="4572000" y="289548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Text Box 27"/>
          <p:cNvSpPr/>
          <p:nvPr/>
        </p:nvSpPr>
        <p:spPr>
          <a:xfrm>
            <a:off x="40384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480060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124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198108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62485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447920" y="495288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imeter = 15 + 8 + 10 + 8 +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4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37168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tan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57600" y="1752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2514600"/>
            <a:ext cx="2438280" cy="12193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52480" y="377208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65760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7712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iang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733920" y="2286000"/>
            <a:ext cx="1752480" cy="1523880"/>
          </a:xfrm>
          <a:prstGeom prst="rect">
            <a:avLst/>
          </a:prstGeom>
          <a:solidFill>
            <a:srgbClr val="00ffff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10"/>
          <p:cNvSpPr/>
          <p:nvPr/>
        </p:nvSpPr>
        <p:spPr>
          <a:xfrm rot="8743200">
            <a:off x="6629040" y="3047760"/>
            <a:ext cx="1905120" cy="1447560"/>
          </a:xfrm>
          <a:prstGeom prst="rtTriangl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33520" y="45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838080" y="53928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0666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27672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429000" y="54864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305240" y="386064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191120" y="38606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2822040" y="2743200"/>
            <a:ext cx="45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7391520" y="382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7816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830592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6324480" y="4572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629400" y="4572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4876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is the space within the boundary of a figu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86200" y="1981080"/>
            <a:ext cx="1219320" cy="13716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638680" y="2590920"/>
            <a:ext cx="1143000" cy="990360"/>
          </a:xfrm>
          <a:prstGeom prst="hexagon">
            <a:avLst>
              <a:gd name="adj" fmla="val 2885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600200" y="35053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3962160" y="3657600"/>
            <a:ext cx="1524240" cy="1143000"/>
            <a:chOff x="3962160" y="3657600"/>
            <a:chExt cx="1524240" cy="1143000"/>
          </a:xfrm>
        </p:grpSpPr>
        <p:sp>
          <p:nvSpPr>
            <p:cNvPr id="136" name="Line 13"/>
            <p:cNvSpPr/>
            <p:nvPr/>
          </p:nvSpPr>
          <p:spPr>
            <a:xfrm>
              <a:off x="4038480" y="36576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 flipH="1">
              <a:off x="3962160" y="3657600"/>
              <a:ext cx="75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AutoShape 17"/>
          <p:cNvSpPr/>
          <p:nvPr/>
        </p:nvSpPr>
        <p:spPr>
          <a:xfrm rot="5400000">
            <a:off x="6514920" y="3467160"/>
            <a:ext cx="99072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60" y="1708"/>
                  <a:pt x="9519" y="5080"/>
                  <a:pt x="9519" y="10800"/>
                </a:cubicBezTo>
                <a:cubicBezTo>
                  <a:pt x="9519" y="16520"/>
                  <a:pt x="15560" y="19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39"/>
          <p:cNvGrpSpPr/>
          <p:nvPr/>
        </p:nvGrpSpPr>
        <p:grpSpPr>
          <a:xfrm>
            <a:off x="838080" y="2209680"/>
            <a:ext cx="2286000" cy="1143000"/>
            <a:chOff x="838080" y="2209680"/>
            <a:chExt cx="2286000" cy="1143000"/>
          </a:xfrm>
        </p:grpSpPr>
        <p:sp>
          <p:nvSpPr>
            <p:cNvPr id="140" name="Rectangle 9"/>
            <p:cNvSpPr/>
            <p:nvPr/>
          </p:nvSpPr>
          <p:spPr>
            <a:xfrm>
              <a:off x="838080" y="2209680"/>
              <a:ext cx="2286000" cy="1143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838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838080" y="259092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838080" y="297180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22"/>
            <p:cNvSpPr/>
            <p:nvPr/>
          </p:nvSpPr>
          <p:spPr>
            <a:xfrm>
              <a:off x="1219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23"/>
            <p:cNvSpPr/>
            <p:nvPr/>
          </p:nvSpPr>
          <p:spPr>
            <a:xfrm>
              <a:off x="2362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24"/>
            <p:cNvSpPr/>
            <p:nvPr/>
          </p:nvSpPr>
          <p:spPr>
            <a:xfrm>
              <a:off x="1981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25"/>
            <p:cNvSpPr/>
            <p:nvPr/>
          </p:nvSpPr>
          <p:spPr>
            <a:xfrm>
              <a:off x="1600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26"/>
            <p:cNvSpPr/>
            <p:nvPr/>
          </p:nvSpPr>
          <p:spPr>
            <a:xfrm>
              <a:off x="2743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40"/>
          <p:cNvGrpSpPr/>
          <p:nvPr/>
        </p:nvGrpSpPr>
        <p:grpSpPr>
          <a:xfrm>
            <a:off x="7086600" y="2133720"/>
            <a:ext cx="1523880" cy="1523880"/>
            <a:chOff x="7086600" y="2133720"/>
            <a:chExt cx="1523880" cy="1523880"/>
          </a:xfrm>
        </p:grpSpPr>
        <p:sp>
          <p:nvSpPr>
            <p:cNvPr id="150" name="Rectangle 31"/>
            <p:cNvSpPr/>
            <p:nvPr/>
          </p:nvSpPr>
          <p:spPr>
            <a:xfrm>
              <a:off x="7086600" y="2133720"/>
              <a:ext cx="1523880" cy="1523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086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7086600" y="251460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7086600" y="2895480"/>
              <a:ext cx="380880" cy="3812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7086600" y="3276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7467480" y="2133720"/>
              <a:ext cx="38124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37"/>
            <p:cNvSpPr/>
            <p:nvPr/>
          </p:nvSpPr>
          <p:spPr>
            <a:xfrm>
              <a:off x="784872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8229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parallelo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parallelogram = base x he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43200" y="2209680"/>
            <a:ext cx="19810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2743200" y="2209680"/>
            <a:ext cx="533520" cy="1143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711680" y="2209680"/>
            <a:ext cx="533520" cy="1143000"/>
          </a:xfrm>
          <a:prstGeom prst="rtTriangl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4698720" y="2209680"/>
            <a:ext cx="12600" cy="1105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114800" y="27432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0384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39625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1.48148E-006 C 0.12449 -0.11528 0.24914 -0.23033 0.18022 -0.27894 C 0.11129 -0.32755 -0.34756 -0.33797 -0.41319 -0.29144 C -0.47881 -0.24491 -0.346 -0.12246 -0.21319 1.48148E-006 E">
                                      <p:cBhvr>
                                        <p:cTn id="19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a triang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= ½ x base x he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38080" y="2057400"/>
            <a:ext cx="121932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8120" y="2209680"/>
            <a:ext cx="18288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6019920" y="2133720"/>
            <a:ext cx="1904760" cy="914400"/>
          </a:xfrm>
          <a:prstGeom prst="parallelogram">
            <a:avLst>
              <a:gd name="adj" fmla="val 52077"/>
            </a:avLst>
          </a:prstGeom>
          <a:solidFill>
            <a:srgbClr val="79e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2952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8098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1337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838080" y="205704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1"/>
          <p:cNvSpPr/>
          <p:nvPr/>
        </p:nvSpPr>
        <p:spPr>
          <a:xfrm flipV="1">
            <a:off x="3048120" y="22096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47712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47712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48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6477120" y="21337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trapez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38862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trapezium ABC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C +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(½ x BC x AH)  + (½ x AD x C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AH x (BC + A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height x sum of parallel s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28195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3434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5181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2971800" y="33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198108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0292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36"/>
          <p:cNvSpPr/>
          <p:nvPr/>
        </p:nvSpPr>
        <p:spPr>
          <a:xfrm rot="10800000">
            <a:off x="2285640" y="2133720"/>
            <a:ext cx="3048120" cy="121896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253800 h 1218960"/>
              <a:gd name="textAreaBottom" fmla="*/ 9651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3048120" y="2133720"/>
            <a:ext cx="22860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45"/>
          <p:cNvGrpSpPr/>
          <p:nvPr/>
        </p:nvGrpSpPr>
        <p:grpSpPr>
          <a:xfrm>
            <a:off x="2286000" y="2133720"/>
            <a:ext cx="762120" cy="1218960"/>
            <a:chOff x="2286000" y="2133720"/>
            <a:chExt cx="762120" cy="1218960"/>
          </a:xfrm>
        </p:grpSpPr>
        <p:sp>
          <p:nvSpPr>
            <p:cNvPr id="194" name="AutoShape 40"/>
            <p:cNvSpPr/>
            <p:nvPr/>
          </p:nvSpPr>
          <p:spPr>
            <a:xfrm rot="16200000">
              <a:off x="2057400" y="2361960"/>
              <a:ext cx="1218960" cy="7621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 flipH="1">
              <a:off x="281916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28195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4571640" y="2133720"/>
            <a:ext cx="762480" cy="1218960"/>
            <a:chOff x="4571640" y="2133720"/>
            <a:chExt cx="762480" cy="1218960"/>
          </a:xfrm>
        </p:grpSpPr>
        <p:sp>
          <p:nvSpPr>
            <p:cNvPr id="198" name="AutoShape 39"/>
            <p:cNvSpPr/>
            <p:nvPr/>
          </p:nvSpPr>
          <p:spPr>
            <a:xfrm rot="10800000">
              <a:off x="4571640" y="2133720"/>
              <a:ext cx="762120" cy="1218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43"/>
            <p:cNvSpPr/>
            <p:nvPr/>
          </p:nvSpPr>
          <p:spPr>
            <a:xfrm>
              <a:off x="518148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44"/>
            <p:cNvSpPr/>
            <p:nvPr/>
          </p:nvSpPr>
          <p:spPr>
            <a:xfrm>
              <a:off x="5181480" y="2286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Line 47"/>
          <p:cNvSpPr/>
          <p:nvPr/>
        </p:nvSpPr>
        <p:spPr>
          <a:xfrm>
            <a:off x="37339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j0157763"/>
          <p:cNvPicPr/>
          <p:nvPr/>
        </p:nvPicPr>
        <p:blipFill>
          <a:blip r:embed="rId1"/>
          <a:stretch/>
        </p:blipFill>
        <p:spPr>
          <a:xfrm>
            <a:off x="380880" y="4129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66996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89080" y="3084480"/>
            <a:ext cx="397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95280" y="2590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3" descr="j0283209"/>
          <p:cNvPicPr/>
          <p:nvPr/>
        </p:nvPicPr>
        <p:blipFill>
          <a:blip r:embed="rId2"/>
          <a:stretch/>
        </p:blipFill>
        <p:spPr>
          <a:xfrm>
            <a:off x="7162920" y="762120"/>
            <a:ext cx="1323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0:18:44Z</dcterms:created>
  <dc:creator>rudy</dc:creator>
  <dc:description/>
  <dc:language>en-US</dc:language>
  <cp:lastModifiedBy>RomaK</cp:lastModifiedBy>
  <dcterms:modified xsi:type="dcterms:W3CDTF">2015-09-04T09:17:35Z</dcterms:modified>
  <cp:revision>23</cp:revision>
  <dc:subject/>
  <dc:title>Slide 1</dc:title>
</cp:coreProperties>
</file>